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4875-6204-42FD-91A8-7A6A8252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4E42-5000-4F23-8D6A-D5DAB2A3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064A-2C90-48CC-9313-9CE9791C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4FD9-CF9C-4435-9301-DCA01029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40B0-2AA8-48D5-88F0-DAFA07D3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529F-38EB-42E4-9170-14BF3B0E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1512-8B7D-46C9-A45A-499AB2FB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928A-65C7-4219-A390-82EE0749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CACB-CF5F-4D57-A4FA-1DE336FB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D883-3D13-4F51-8890-64A4FAAF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7E4E-799D-497B-B7AB-FE1E4ABB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3B4-DA7F-4C74-9C5B-8BE9E6CF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5DBD-BFB0-4071-8734-277A01E1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E258-B2E2-4EDC-98BD-C06B5B9B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62AB-944E-43C8-AE05-1BC13AD9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1A7E-0DC4-4163-9CA8-074655C3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1888-2DA9-4E45-B0B7-9C8AA1E3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E7B84-D41C-4CF8-B5B8-73F674CE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0FB93-8C7F-477B-95EE-AE9E47C7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1740A-526A-463E-B318-5313379F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B730A-6DA0-4672-AA35-52243AE4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632D6-67A0-4C41-836E-019F1C6B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7EA-426C-43E5-A948-19B987E6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C8A61-7D4F-44DE-9164-379DDC78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C4515-8F92-40A2-BB9A-ACAFFA97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45130-0A63-4B08-9BDE-D1D3AD5A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1B50C-A80F-4819-830C-51BA6E2F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70B02-8936-4AE5-B1B5-A1A2EA49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6CC8C-3BED-466D-8742-722423EE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BF139-906C-4EB4-A732-3A6F6AEC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49F3E-F299-41CD-8835-EFD104CF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01C67-ED6B-49B4-B7F9-23A31753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A2357-4C39-4A62-8174-28C705B1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50E-B36E-4E58-98B7-50ED89B1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62F2E-2AF9-40CB-A307-F28007AD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77E8A-642E-47FB-B8C4-3F838D4A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C411C-D7CD-4D97-9E28-F096065F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14CAA-6A31-4868-A584-AE7E73BB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B15B0-BB34-47A6-B6F1-233A1BD1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94687-0AA9-47D7-A0CF-7D341DCA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80BBE-1FBB-4903-81BE-7B058D73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CF8F0-885B-4948-9149-B5B7B629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9195F-B028-4ECE-B33A-1B687582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F99B-7787-4E2F-9C81-15CA1AE6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06C-2756-49E7-B0E4-540B42E5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279A-313B-41F9-AF34-81F3BE5F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611-F0EF-4839-99AC-AD2EAC37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6049-A956-4382-8199-068C7C30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3C40-8EC6-4B8F-9657-E943558AA3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58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5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6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63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64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6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9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grpSp>
            <p:nvGrpSpPr>
              <p:cNvPr id="70" name="Group 15"/>
              <p:cNvGrpSpPr/>
              <p:nvPr/>
            </p:nvGrpSpPr>
            <p:grpSpPr>
              <a:xfrm>
                <a:off x="852480" y="4052520"/>
                <a:ext cx="1833480" cy="1666800"/>
                <a:chOff x="852480" y="4052520"/>
                <a:chExt cx="1833480" cy="1666800"/>
              </a:xfrm>
            </p:grpSpPr>
            <p:sp>
              <p:nvSpPr>
                <p:cNvPr id="71" name="Freeform 16"/>
                <p:cNvSpPr/>
                <p:nvPr/>
              </p:nvSpPr>
              <p:spPr>
                <a:xfrm flipH="1" rot="7102800">
                  <a:off x="1270440" y="3938400"/>
                  <a:ext cx="477360" cy="12355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72" name="Freeform 17"/>
                <p:cNvSpPr/>
                <p:nvPr/>
              </p:nvSpPr>
              <p:spPr>
                <a:xfrm flipH="1" rot="7102800">
                  <a:off x="2352960" y="4978800"/>
                  <a:ext cx="110520" cy="506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73" name="Freeform 18"/>
                <p:cNvSpPr/>
                <p:nvPr/>
              </p:nvSpPr>
              <p:spPr>
                <a:xfrm flipH="1" rot="7102800">
                  <a:off x="2499480" y="5567400"/>
                  <a:ext cx="200880" cy="856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74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75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6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7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7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8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83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86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4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5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6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7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8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9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34C6-DB22-45F4-B344-59A471B99B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42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3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4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5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3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D512-899F-4CAA-ADC3-8D9EAC2EDF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199" name="Group 3"/>
            <p:cNvGrpSpPr/>
            <p:nvPr/>
          </p:nvGrpSpPr>
          <p:grpSpPr>
            <a:xfrm>
              <a:off x="5403240" y="60120"/>
              <a:ext cx="3627360" cy="6139080"/>
              <a:chOff x="5403240" y="60120"/>
              <a:chExt cx="3627360" cy="6139080"/>
            </a:xfrm>
          </p:grpSpPr>
          <p:sp>
            <p:nvSpPr>
              <p:cNvPr id="200" name="Freeform 4"/>
              <p:cNvSpPr/>
              <p:nvPr/>
            </p:nvSpPr>
            <p:spPr>
              <a:xfrm flipV="1" rot="11970000">
                <a:off x="6582240" y="345240"/>
                <a:ext cx="211536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1" name="Freeform 5"/>
              <p:cNvSpPr/>
              <p:nvPr/>
            </p:nvSpPr>
            <p:spPr>
              <a:xfrm flipV="1" rot="11970000">
                <a:off x="7421400" y="196092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2" name="Freeform 6"/>
              <p:cNvSpPr/>
              <p:nvPr/>
            </p:nvSpPr>
            <p:spPr>
              <a:xfrm flipV="1" rot="11970000">
                <a:off x="6823440" y="259020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3" name="Freeform 7"/>
              <p:cNvSpPr/>
              <p:nvPr/>
            </p:nvSpPr>
            <p:spPr>
              <a:xfrm flipV="1" rot="11970000">
                <a:off x="7250040" y="6724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4" name="Freeform 8"/>
              <p:cNvSpPr/>
              <p:nvPr/>
            </p:nvSpPr>
            <p:spPr>
              <a:xfrm flipV="1" rot="11970000">
                <a:off x="7147800" y="265176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5" name="Freeform 9"/>
              <p:cNvSpPr/>
              <p:nvPr/>
            </p:nvSpPr>
            <p:spPr>
              <a:xfrm flipV="1" rot="11970000">
                <a:off x="7132680" y="124344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6" name="Freeform 10"/>
              <p:cNvSpPr/>
              <p:nvPr/>
            </p:nvSpPr>
            <p:spPr>
              <a:xfrm flipV="1" rot="11970000">
                <a:off x="5933880" y="293724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207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213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14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5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6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17" name="Group 21"/>
            <p:cNvGrpSpPr/>
            <p:nvPr/>
          </p:nvGrpSpPr>
          <p:grpSpPr>
            <a:xfrm>
              <a:off x="5644080" y="282240"/>
              <a:ext cx="892800" cy="825480"/>
              <a:chOff x="5644080" y="282240"/>
              <a:chExt cx="892800" cy="825480"/>
            </a:xfrm>
          </p:grpSpPr>
          <p:sp>
            <p:nvSpPr>
              <p:cNvPr id="218" name="Freeform 22"/>
              <p:cNvSpPr/>
              <p:nvPr/>
            </p:nvSpPr>
            <p:spPr>
              <a:xfrm rot="14908200">
                <a:off x="5755680" y="77688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9" name="Freeform 23"/>
              <p:cNvSpPr/>
              <p:nvPr/>
            </p:nvSpPr>
            <p:spPr>
              <a:xfrm rot="14908200">
                <a:off x="5704560" y="45720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0" name="Freeform 24"/>
              <p:cNvSpPr/>
              <p:nvPr/>
            </p:nvSpPr>
            <p:spPr>
              <a:xfrm rot="14908200">
                <a:off x="6247800" y="381960"/>
                <a:ext cx="31896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21" name="Group 25"/>
            <p:cNvGrpSpPr/>
            <p:nvPr/>
          </p:nvGrpSpPr>
          <p:grpSpPr>
            <a:xfrm>
              <a:off x="968760" y="5253480"/>
              <a:ext cx="1059120" cy="829800"/>
              <a:chOff x="968760" y="5253480"/>
              <a:chExt cx="1059120" cy="829800"/>
            </a:xfrm>
          </p:grpSpPr>
          <p:sp>
            <p:nvSpPr>
              <p:cNvPr id="222" name="Freeform 26"/>
              <p:cNvSpPr/>
              <p:nvPr/>
            </p:nvSpPr>
            <p:spPr>
              <a:xfrm rot="8524800">
                <a:off x="1711080" y="551844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3" name="Freeform 27"/>
              <p:cNvSpPr/>
              <p:nvPr/>
            </p:nvSpPr>
            <p:spPr>
              <a:xfrm rot="8524800">
                <a:off x="1193040" y="57286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4" name="Freeform 28"/>
              <p:cNvSpPr/>
              <p:nvPr/>
            </p:nvSpPr>
            <p:spPr>
              <a:xfrm rot="8524800">
                <a:off x="96012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25" name="Group 29"/>
            <p:cNvGrpSpPr/>
            <p:nvPr/>
          </p:nvGrpSpPr>
          <p:grpSpPr>
            <a:xfrm>
              <a:off x="375840" y="432000"/>
              <a:ext cx="1690200" cy="1146600"/>
              <a:chOff x="375840" y="432000"/>
              <a:chExt cx="1690200" cy="1146600"/>
            </a:xfrm>
          </p:grpSpPr>
          <p:sp>
            <p:nvSpPr>
              <p:cNvPr id="226" name="Freeform 30"/>
              <p:cNvSpPr/>
              <p:nvPr/>
            </p:nvSpPr>
            <p:spPr>
              <a:xfrm flipH="1" rot="4107000">
                <a:off x="1576080" y="105048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7" name="Freeform 31"/>
              <p:cNvSpPr/>
              <p:nvPr/>
            </p:nvSpPr>
            <p:spPr>
              <a:xfrm flipH="1" rot="4107000">
                <a:off x="1022760" y="57564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8" name="Freeform 32"/>
              <p:cNvSpPr/>
              <p:nvPr/>
            </p:nvSpPr>
            <p:spPr>
              <a:xfrm flipH="1" rot="4107000">
                <a:off x="278640" y="108936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29" name="Group 33"/>
            <p:cNvGrpSpPr/>
            <p:nvPr/>
          </p:nvGrpSpPr>
          <p:grpSpPr>
            <a:xfrm>
              <a:off x="7396560" y="3712320"/>
              <a:ext cx="1155600" cy="1607760"/>
              <a:chOff x="7396560" y="3712320"/>
              <a:chExt cx="1155600" cy="1607760"/>
            </a:xfrm>
          </p:grpSpPr>
          <p:sp>
            <p:nvSpPr>
              <p:cNvPr id="230" name="Freeform 34"/>
              <p:cNvSpPr/>
              <p:nvPr/>
            </p:nvSpPr>
            <p:spPr>
              <a:xfrm flipH="1" rot="10015800">
                <a:off x="74512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31" name="Freeform 35"/>
              <p:cNvSpPr/>
              <p:nvPr/>
            </p:nvSpPr>
            <p:spPr>
              <a:xfrm flipH="1" rot="10015800">
                <a:off x="79020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32" name="Freeform 36"/>
              <p:cNvSpPr/>
              <p:nvPr/>
            </p:nvSpPr>
            <p:spPr>
              <a:xfrm flipH="1" rot="10015800">
                <a:off x="75945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233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4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5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6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7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8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9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4FDC-EB85-49F9-9F17-C91C2C1634F0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44000" cy="347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Урок русского языка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2 класс </a:t>
            </a:r>
            <a:br>
              <a:rPr sz="2800"/>
            </a:b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УМК «Школа России»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Учебник «Русский язык 2 класс»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Канакина В.П., Горецкий В.Г.</a:t>
            </a:r>
            <a:br>
              <a:rPr sz="2000"/>
            </a:br>
            <a:br>
              <a:rPr sz="20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Тема: удвоенные согласные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995280" y="4723920"/>
            <a:ext cx="48610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читель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ветлакова Татьяна Николаевн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МБОУ СОШ №3 г.Агрыз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Гу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лл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вер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2428920" y="2271600"/>
            <a:ext cx="42861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ыставка кни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48320" y="3903480"/>
            <a:ext cx="403848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9" name="Picture 2" descr="E:\отчет веронике николаевне\чип.jpg"/>
          <p:cNvPicPr/>
          <p:nvPr/>
        </p:nvPicPr>
        <p:blipFill>
          <a:blip r:embed="rId1"/>
          <a:stretch/>
        </p:blipFill>
        <p:spPr>
          <a:xfrm>
            <a:off x="0" y="1500120"/>
            <a:ext cx="3071880" cy="25718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E:\отчет веронике николаевне\винн.jpg"/>
          <p:cNvPicPr/>
          <p:nvPr/>
        </p:nvPicPr>
        <p:blipFill>
          <a:blip r:embed="rId2"/>
          <a:stretch/>
        </p:blipFill>
        <p:spPr>
          <a:xfrm>
            <a:off x="3214800" y="2000160"/>
            <a:ext cx="2643120" cy="3643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E:\отчет веронике николаевне\гуливер.jpg"/>
          <p:cNvPicPr/>
          <p:nvPr/>
        </p:nvPicPr>
        <p:blipFill>
          <a:blip r:embed="rId3"/>
          <a:stretch/>
        </p:blipFill>
        <p:spPr>
          <a:xfrm>
            <a:off x="6072120" y="2357280"/>
            <a:ext cx="283860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Имен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Анна, Инна, Алла, Геннадий.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j0415472"/>
          <p:cNvPicPr/>
          <p:nvPr/>
        </p:nvPicPr>
        <p:blipFill>
          <a:blip r:embed="rId1"/>
          <a:stretch/>
        </p:blipFill>
        <p:spPr>
          <a:xfrm>
            <a:off x="1835280" y="907920"/>
            <a:ext cx="2966760" cy="3024360"/>
          </a:xfrm>
          <a:prstGeom prst="rect">
            <a:avLst/>
          </a:prstGeom>
          <a:ln w="0">
            <a:noFill/>
          </a:ln>
        </p:spPr>
      </p:pic>
      <p:sp>
        <p:nvSpPr>
          <p:cNvPr id="325" name="WordArt 3"/>
          <p:cNvSpPr txBox="1"/>
          <p:nvPr/>
        </p:nvSpPr>
        <p:spPr>
          <a:xfrm>
            <a:off x="2268360" y="3645000"/>
            <a:ext cx="93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ро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6" name="WordArt 4"/>
          <p:cNvSpPr txBox="1"/>
          <p:nvPr/>
        </p:nvSpPr>
        <p:spPr>
          <a:xfrm rot="1680600">
            <a:off x="3564000" y="3645000"/>
            <a:ext cx="576360" cy="31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л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5292720" y="476280"/>
            <a:ext cx="503280" cy="60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ж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5651640" y="476280"/>
            <a:ext cx="502920" cy="60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ж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9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1715760" y="979560"/>
            <a:ext cx="968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Ан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Ин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Ал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Ген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2549520" y="1538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2268360" y="2060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2050920" y="2637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ла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2282760" y="31719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ди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81481E-006 L 0.06493 0.00186 E">
                                      <p:cBhvr>
                                        <p:cTn id="145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07407E-006 L 0.07622 -4.07407E-006 E">
                                      <p:cBhvr>
                                        <p:cTn id="149" dur="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L 0.09861 -0.00185 E">
                                      <p:cBhvr>
                                        <p:cTn id="153" dur="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0.07327 0.00046 E">
                                      <p:cBhvr>
                                        <p:cTn id="157" dur="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н-на, Ин-на, Ал-ла, Ген-надий, Генна-ди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амостоятельная рабо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пражнение 189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пп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рат, су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бб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та, телегр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мм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, хо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кк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ист, ко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лл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кция, 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рр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са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рфогр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мм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, 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нн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, п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сс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жир, прогр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мм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, кро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сс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вк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Хок-кеист, хокке-ис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Эй Ар Гайд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428760" y="1357200"/>
          <a:ext cx="8229600" cy="5048280"/>
        </p:xfrm>
        <a:graphic>
          <a:graphicData uri="http://schemas.openxmlformats.org/drawingml/2006/table">
            <a:tbl>
              <a:tblPr/>
              <a:tblGrid>
                <a:gridCol w="1114200"/>
                <a:gridCol w="5815080"/>
                <a:gridCol w="130032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Д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твержден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осл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двоенные согласные - это две одинаковые согласные буквы, которые в слове стоят рядом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двоенные согласные в слове – это орфограмм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лова с удвоенной согласной – это словарные слов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лова с удвоенной согласной переносим с одной строчки на другую, пользуясь специальным правилом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Копилка сл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57200" y="1600200"/>
          <a:ext cx="8229600" cy="30700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нн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п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лл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р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69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Домашняя работа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писать из орфографического словаря 8 слов с удвоенной согласно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ма урока: удвоенные согласны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1600200"/>
            <a:ext cx="1235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Цели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9640" y="2133720"/>
            <a:ext cx="784872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знать новые слова с двойными согласным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9280" y="3068280"/>
            <a:ext cx="799308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2. Тренироваться в написании новых сл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9280" y="4149720"/>
            <a:ext cx="799308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3. Применять в речи новые слова с двойными согласным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пасибо за работу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143000" y="1500120"/>
            <a:ext cx="71438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Эй Ар Гайд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71680" y="1714680"/>
          <a:ext cx="8115120" cy="4976640"/>
        </p:xfrm>
        <a:graphic>
          <a:graphicData uri="http://schemas.openxmlformats.org/drawingml/2006/table">
            <a:tbl>
              <a:tblPr/>
              <a:tblGrid>
                <a:gridCol w="631800"/>
                <a:gridCol w="6107040"/>
                <a:gridCol w="137628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До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твержден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осл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96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двоенные согласные - это две одинаковые согласные буквы, которые в слове стоят рядом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двоенные согласные в слове – это орфограмм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лова с удвоенной согласной – это словарные сло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лова с удвоенной согласной переносим с одной строчки на другую, пользуясь специальным правилом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j0415472"/>
          <p:cNvPicPr/>
          <p:nvPr/>
        </p:nvPicPr>
        <p:blipFill>
          <a:blip r:embed="rId1"/>
          <a:stretch/>
        </p:blipFill>
        <p:spPr>
          <a:xfrm>
            <a:off x="1835280" y="981000"/>
            <a:ext cx="4802040" cy="4896000"/>
          </a:xfrm>
          <a:prstGeom prst="rect">
            <a:avLst/>
          </a:prstGeom>
          <a:ln w="0">
            <a:noFill/>
          </a:ln>
        </p:spPr>
      </p:pic>
      <p:sp>
        <p:nvSpPr>
          <p:cNvPr id="291" name="WordArt 3"/>
          <p:cNvSpPr txBox="1"/>
          <p:nvPr/>
        </p:nvSpPr>
        <p:spPr>
          <a:xfrm>
            <a:off x="2627280" y="5373720"/>
            <a:ext cx="93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ро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2" name="WordArt 4"/>
          <p:cNvSpPr txBox="1"/>
          <p:nvPr/>
        </p:nvSpPr>
        <p:spPr>
          <a:xfrm rot="1680600">
            <a:off x="4788000" y="5373360"/>
            <a:ext cx="576000" cy="3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л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Во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жж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и, 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сс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ора, гри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пп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и ка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сс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а,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па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сс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ажир, пе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рр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он, те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рр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аса,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а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пп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етит и телегра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мм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а, 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хо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кк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еист и орфогра</a:t>
            </a:r>
            <a:r>
              <a:rPr b="1" lang="ru-RU" sz="3600" spc="-1" strike="noStrike">
                <a:solidFill>
                  <a:srgbClr val="a50021"/>
                </a:solidFill>
                <a:latin typeface="Verdana"/>
              </a:rPr>
              <a:t>мм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а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Мы слова такие слышим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и с двойной согласной пишем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2303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о</a:t>
            </a:r>
            <a:r>
              <a:rPr b="1" lang="ru-RU" sz="3200" spc="-1" strike="noStrike">
                <a:solidFill>
                  <a:srgbClr val="a50021"/>
                </a:solidFill>
                <a:latin typeface="Verdana"/>
              </a:rPr>
              <a:t>жж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 -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е</a:t>
            </a:r>
            <a:r>
              <a:rPr b="1" lang="ru-RU" sz="3200" spc="-1" strike="noStrike">
                <a:solidFill>
                  <a:srgbClr val="a50021"/>
                </a:solidFill>
                <a:latin typeface="Verdana"/>
              </a:rPr>
              <a:t>рр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н -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</a:t>
            </a:r>
            <a:r>
              <a:rPr b="1" lang="ru-RU" sz="3200" spc="-1" strike="noStrike">
                <a:solidFill>
                  <a:srgbClr val="a50021"/>
                </a:solidFill>
                <a:latin typeface="Verdana"/>
              </a:rPr>
              <a:t>рр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са -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Rectangle 46"/>
          <p:cNvSpPr/>
          <p:nvPr/>
        </p:nvSpPr>
        <p:spPr>
          <a:xfrm>
            <a:off x="2627280" y="4869000"/>
            <a:ext cx="309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летняя пристройк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 дом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Rectangle 49"/>
          <p:cNvSpPr/>
          <p:nvPr/>
        </p:nvSpPr>
        <p:spPr>
          <a:xfrm>
            <a:off x="2411280" y="2637000"/>
            <a:ext cx="273708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ассажирская платформа на вокзал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7" name="Rectangle 50"/>
          <p:cNvSpPr/>
          <p:nvPr/>
        </p:nvSpPr>
        <p:spPr>
          <a:xfrm>
            <a:off x="2411280" y="404640"/>
            <a:ext cx="306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емни, верёвки для управления лошадью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8" name="Picture 51" descr="вожжи 3"/>
          <p:cNvPicPr/>
          <p:nvPr/>
        </p:nvPicPr>
        <p:blipFill>
          <a:blip r:embed="rId1"/>
          <a:stretch/>
        </p:blipFill>
        <p:spPr>
          <a:xfrm>
            <a:off x="6012000" y="512640"/>
            <a:ext cx="2447640" cy="1835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2" descr="перрон 2"/>
          <p:cNvPicPr/>
          <p:nvPr/>
        </p:nvPicPr>
        <p:blipFill>
          <a:blip r:embed="rId2"/>
          <a:stretch/>
        </p:blipFill>
        <p:spPr>
          <a:xfrm>
            <a:off x="6084720" y="2637000"/>
            <a:ext cx="2376720" cy="17841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3" descr="терраса2"/>
          <p:cNvPicPr/>
          <p:nvPr/>
        </p:nvPicPr>
        <p:blipFill>
          <a:blip r:embed="rId3"/>
          <a:stretch/>
        </p:blipFill>
        <p:spPr>
          <a:xfrm>
            <a:off x="6084720" y="4581360"/>
            <a:ext cx="23749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770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пассажир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перро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касс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4000680" y="35712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′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1835280" y="1413000"/>
            <a:ext cx="36036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Line 7"/>
          <p:cNvSpPr/>
          <p:nvPr/>
        </p:nvSpPr>
        <p:spPr>
          <a:xfrm>
            <a:off x="3348000" y="1413000"/>
            <a:ext cx="71928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2340000" y="1413000"/>
            <a:ext cx="544320" cy="1260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3059280" y="170028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′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1835280" y="2781360"/>
            <a:ext cx="36036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Line 11"/>
          <p:cNvSpPr/>
          <p:nvPr/>
        </p:nvSpPr>
        <p:spPr>
          <a:xfrm>
            <a:off x="2340000" y="2781360"/>
            <a:ext cx="50328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1835280" y="314172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′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2195640" y="4149720"/>
            <a:ext cx="576000" cy="0"/>
          </a:xfrm>
          <a:prstGeom prst="line">
            <a:avLst/>
          </a:prstGeom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Чи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пп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лин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2930400" y="1600200"/>
            <a:ext cx="32832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и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нн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-Пу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2343240" y="1600200"/>
            <a:ext cx="44560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6:26:56Z</dcterms:created>
  <dc:creator>15</dc:creator>
  <dc:description/>
  <dc:language>en-US</dc:language>
  <cp:lastModifiedBy>Windows 8</cp:lastModifiedBy>
  <dcterms:modified xsi:type="dcterms:W3CDTF">2016-12-19T20:16:53Z</dcterms:modified>
  <cp:revision>143</cp:revision>
  <dc:subject/>
  <dc:title>Йогурт, Йемен, йод и йог: Буква «Й» лаёт урок                                А. Кочергина</dc:title>
</cp:coreProperties>
</file>